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A46-DF9C-4172-ACE6-890F430D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3BA-D110-41F7-9DF7-47B2285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A68-F69D-4AF0-A1E0-7BD3BC71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BA0-607A-4F95-ACB5-2E4F42F1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9696-3A62-436E-8CFD-800EA4BB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DEB-F4E2-4D64-9A1A-74A923D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E3A-ABA4-4799-9A51-7561004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D234-1EC5-45F5-BDB9-85E57EC1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C573-B278-4E79-97EF-BCC1270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1A8-357B-4FBF-98E1-3AA9F0F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7147-9592-49D9-A387-85AACA5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23B-801C-4CA9-A201-DF23A46C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20CA-0B6D-4338-BEE9-88DF30E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3C1-3017-41F2-9D34-E50DB87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BBC-0103-404D-B6E5-21A8B13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12D-2D07-4482-9FF1-676540D1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306-444A-44B4-8AF8-C2D27DD3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D6793-844E-4A6B-B523-B61D9B72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27D78-6360-40E6-9137-42CFE01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3877D-4290-4455-85F4-D18C15B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596A2-51AD-4DAA-878D-1ACF3B2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E55AD-2E23-4BC0-B809-A81E601B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488-3B74-4CB8-BC61-2C961DD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A3904-DEB1-4A4B-A191-02616AB9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30853-5909-449E-B339-30F9D7D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2DCB8-EF2A-41CC-BD75-F79F448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13FBF-D688-4521-9F7E-306AAC70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AE7F7-E08F-4E4D-B493-7BA1B632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DF3A-06C9-428B-AF1A-DF6F8AA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C789B-8CC7-40A1-B0E0-1522AEF1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C494C-824A-433C-9725-A6F48962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4ABE6-1EEB-4FF2-9F42-6B07F81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59E90-A96A-4224-91C6-EA152CA0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954-56E7-4C7A-8351-67AF4889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EB12A-075A-4FE9-B70E-74C52F60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8200D-8B1B-4AAD-AA6C-26DB3415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5C613-8DF6-4D5A-850E-0D76549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30A4C-DC6A-4777-9A0C-D3362AF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D9A50-495C-4E14-8967-386D87E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B79DE-46AC-45BF-AEF2-910CB2E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52769-D009-4127-80B1-EB2CD01D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2F86C-AEDD-4AF5-84A1-0B28321D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98297-C1AF-4DA5-808A-69651E8A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F6C88-62EB-4A14-81FC-D74AA7FE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A81-A55E-412D-8DF4-B22EBD8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3906A-5FBF-44E9-976A-5788D75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547C0-0FCA-4995-9548-B673435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C1E3C-4167-4B4B-80C9-76D9226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E7FF5-66EA-4753-AD04-474CFFA6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F0820-DE3E-4426-9C2D-2C4DA37A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44756-DFAC-491E-86E8-8F9DB97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7834A-6976-4956-A800-7C78D31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DDB37-0E9F-4A27-8E17-24294C4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D14D8-95CF-4BA2-8102-35612B0D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FD071-89A1-401A-8FF7-4218ABC2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2DA-3460-48B9-851E-CC05369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543B6-A290-4C6F-99BA-860D7524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68F38-149A-4E41-881C-EDEFEE46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D5BB-BCDB-49C9-8461-D9AB1DE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7375-5EE9-4ABC-B2F1-721D039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98B95-83D6-4037-84CC-C6563BAA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3313-138C-4A67-BA0F-FBE51B0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BFF8F-296C-4061-A834-AD951D4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10AE-4D3B-45A8-A453-F9D75AB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A5C6-7AAD-42B9-A72B-F87714F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44B7-8776-482C-85E1-4299239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B9E-0FDF-432E-B5DC-D8CDE26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59AE-9130-44CF-A648-C64D65A7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8EF6-B2BB-4E85-8654-A2E52FC5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E2BD6-13B2-41F3-A5D6-42A8147D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8BCC3-A302-49F6-8707-8C077C01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2B1BC-687A-4BB2-8DF3-FF6DBC7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77228-7FB0-45EA-9C43-649A325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56B87-8305-4CFA-B839-582B2ED9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C97DF-A1D2-44A7-B51A-091ED64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AA797-4AB1-40A8-86CC-FA038DE0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13F50-2CC8-4704-9F06-4A0F764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460-2408-4184-BDDA-E29F1B91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A6472-268C-449F-B403-C5C90FB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0C862-8F0C-4CF0-818E-DC048E5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476A3-2D83-4BCA-B127-E5882F4D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77D92-ED9D-475B-8538-C159C5CB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F4439-A824-4D62-9638-806E7292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82E5-84FC-47E0-8AB4-53177850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85E1-5471-40D2-AA77-527D3F20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BDEE-DF80-4928-B34C-0183E15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6A78-D3D8-46BB-8BE4-4AA3930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CD66A-9A20-499F-9500-EB570C9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A62-538E-4B6A-ABFB-23945A6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A422-E633-411D-B71C-EEFB505D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F6C2-673B-4C47-A560-8B2A43B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2716-5C30-465F-BAA4-0B32AC9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B411-83D4-46B3-8EEB-CBA569E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90EEB-505B-4E50-827B-36FEFB3D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3799-5163-4767-B412-00E8516A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A561-2439-4968-BB2A-B98CDFD4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D32-8C14-4D65-BD1F-0625F6A14C1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6B3-FEF4-4F04-A764-8C7E40C21E4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716D-E61C-4D33-9286-2947D8AF6F7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684-0341-4584-9DB4-1D91F13823F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13F-AA62-4563-A361-E38CA090FA8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6CC-81A3-4733-B20F-D10E3A11F37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A3F-2B42-430E-888A-A99F1E41232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545-1444-47FD-A877-9C2A0AE5812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HOW HISTORY INFLUENCES TEX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odernism (1914-1939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hink-Pair-Share: The Red Wheelbarrow</a:t>
            </a:r>
            <a:br>
              <a:rPr sz="4000"/>
            </a:b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by William Carlos William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 much depend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upon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 red whee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barrow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azed with rai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ater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beside the whi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icken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n the left is the entire text of the Imagist poem “The Red Wheelbarrow.”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at makes it poetry?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 does it exemplify Imagism?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ake two minutes to record your thoughts on these question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 American wake-up c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Belief in progr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merica is Eden, a beautiful land of unlimited resources and opportunity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rust in the limitless potential of each individu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50 million killed in World War I (1914-1918)—more than any prior human conflic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tock Market crash of 1929 leads to Great Depression and 25% unemployment ra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eud’s theories suggest human thought and behavior are governed by the unconscious mind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merican Dre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merican Real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alues of American Modern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ynical view of autho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jection of traditional val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est in Freud and psycho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ergetic desire to do something n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Content Placeholder 12" descr="(mod7) ManRay A Night At.jpg"/>
          <p:cNvPicPr/>
          <p:nvPr/>
        </p:nvPicPr>
        <p:blipFill>
          <a:blip r:embed="rId1"/>
          <a:stretch/>
        </p:blipFill>
        <p:spPr>
          <a:xfrm>
            <a:off x="5149800" y="1589040"/>
            <a:ext cx="32767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American Modernism is a reaction to: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Content Placeholder 4" descr="(mod1) Dasburg Improvisation.jpg"/>
          <p:cNvPicPr/>
          <p:nvPr/>
        </p:nvPicPr>
        <p:blipFill>
          <a:blip r:embed="rId1"/>
          <a:stretch/>
        </p:blipFill>
        <p:spPr>
          <a:xfrm>
            <a:off x="762120" y="1752480"/>
            <a:ext cx="3436920" cy="419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2" name=""/>
          <p:cNvSpPr txBox="1"/>
          <p:nvPr/>
        </p:nvSpPr>
        <p:spPr>
          <a:xfrm>
            <a:off x="4647960" y="20574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ld War 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reat Depr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hibition and gangs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an’s suffr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udian theori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haracteristics of Modernist tex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raditional styles, subjects and for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deal hero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ason and rational though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old experimentation in style and form, reflecting the fragmentation of socie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lawed and disillusioned heroes who show “grace under pressure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ew narrative techniques to express inner workings of the human mind, such as stream of consciousnes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Rejection of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Emergence of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he Progression of American Though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09480" y="1981080"/>
          <a:ext cx="8153640" cy="347976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6426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en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merican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ceived the individual  a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oman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alph Waldo Em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nry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lliam Dean Ho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rk Tw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mply a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tur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phen 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ank No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odern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.E. Cumm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.S. Eli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lliam Faulk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complex mix of conscious thoughts and unconscious des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rlem Renaiss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7" descr="(mod 9) Hayden Jeunesse.jpg"/>
          <p:cNvPicPr/>
          <p:nvPr/>
        </p:nvPicPr>
        <p:blipFill>
          <a:blip r:embed="rId1"/>
          <a:stretch/>
        </p:blipFill>
        <p:spPr>
          <a:xfrm>
            <a:off x="380880" y="1905120"/>
            <a:ext cx="4496040" cy="375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2" name=""/>
          <p:cNvSpPr txBox="1"/>
          <p:nvPr/>
        </p:nvSpPr>
        <p:spPr>
          <a:xfrm>
            <a:off x="4952520" y="17521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dustrial needs of World War I create opportunity and lead to a massive migration of African Americans from South to North around 191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y the mid-1920s, Harlem, a section of New York City, attains an almost wholly black population of 150,00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s “city within a city” produces poetry based on rhythms of spirituals, jazz, and the Blues, and diction based on the street talk of the ghett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mbol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52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form of expression in which the world of appearances is violently rearranged by artists who seek a different and more truthful version of realit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oes not just describe an object; tries to reflect the emotional effects of the objec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mphasizes imagination over reas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istinct from religious, national, or psychological symbol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orn out of the belief that nature has lost its mystery due to scientific advances; the modern world is full of science, technology, poverty, violence, and spiritual corrup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Content Placeholder 4" descr="(mod2) O'Keeffe Ram's Head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35400" cy="361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mag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4" descr="(mod4) Demuth Trees.jpg"/>
          <p:cNvPicPr/>
          <p:nvPr/>
        </p:nvPicPr>
        <p:blipFill>
          <a:blip r:embed="rId1"/>
          <a:stretch/>
        </p:blipFill>
        <p:spPr>
          <a:xfrm>
            <a:off x="220680" y="2209680"/>
            <a:ext cx="458928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"/>
          <p:cNvSpPr txBox="1"/>
          <p:nvPr/>
        </p:nvSpPr>
        <p:spPr>
          <a:xfrm>
            <a:off x="4876560" y="19051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elieves poetry is the purest form of literary expression because of its precise, clear, unqualified image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elieves an image can carry the whole poem’s ideas and emot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Attempts to reform poetry—ridding it of prettiness, sentimentality, and artificiality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centrates on the raw power of the imag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ses common speech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oes not employ elaborate metrics or stanza patter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8:39:13Z</dcterms:created>
  <dc:creator>Stephen Joseph Fazio</dc:creator>
  <dc:description/>
  <dc:language>en-US</dc:language>
  <cp:lastModifiedBy>Stephen Joseph Fazio</cp:lastModifiedBy>
  <dcterms:modified xsi:type="dcterms:W3CDTF">2009-02-25T14:02:31Z</dcterms:modified>
  <cp:revision>27</cp:revision>
  <dc:subject/>
  <dc:title>How History Influences Texts</dc:title>
</cp:coreProperties>
</file>